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D29-C891-4105-8F06-52475BD2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83C-0743-46E9-97ED-084FEA75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963-508F-4894-ABFD-ED1E3532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79A-0D79-4009-A80D-3637DA0A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C2CB-EB88-40B0-9068-E3005C9F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C469-50B0-486B-B2C5-406705DD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BE3A-EE81-4BE2-9F2E-625F016C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0EE8-02AB-4648-A854-EE0C3F32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CDB7-5F05-446E-ADA1-ECBA7396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87E1-B3E4-41F4-ADB3-9CC47678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6D68-86A4-4868-AE7D-1A1EC2FC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BA9-0AE7-42C4-9427-C3AAB036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0A24-CCAC-4E03-9D1E-CBF79E61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B67F-780D-44CE-8949-034532F5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8EC4-B77F-4335-8066-6015AF86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FDD2-DC13-43A3-B9C8-AF2DD603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866F-61C8-4691-BF61-939C968E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239-F90B-4F8A-B2ED-E81EF7C1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759-E53D-4365-BD32-13DC9848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BD49-DC9F-4BEC-A47E-2F8D8A30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03E-1D41-41DF-A9EC-C9CA74FA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EB3-902E-4D46-BCCF-37D8D5AE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558-A488-4FF1-BCBD-72172237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9CE-9120-4019-84E9-E8B42B8F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9D57-AE42-48F6-BA89-51B3D85715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6FFB-D634-4A11-85E9-5D69FB2A559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s-help://MS.VSCC.v90/MS.MSDNQTR.v90.en/fxref_mscorlib/html/15673f3e-3d77-4366-37c1-5592a96fec3c.htm" TargetMode="External"/><Relationship Id="rId2" Type="http://schemas.openxmlformats.org/officeDocument/2006/relationships/hyperlink" Target="ms-help://MS.VSCC.v90/MS.MSDNQTR.v90.en/fxref_mscorlib/html/a8719fb1-6240-4b55-477d-99c87edef939.htm" TargetMode="External"/><Relationship Id="rId3" Type="http://schemas.openxmlformats.org/officeDocument/2006/relationships/hyperlink" Target="ms-help://MS.VSCC.v90/MS.MSDNQTR.v90.en/fxref_mscorlib/html/a8719fb1-6240-4b55-477d-99c87edef939.htm" TargetMode="External"/><Relationship Id="rId4" Type="http://schemas.openxmlformats.org/officeDocument/2006/relationships/hyperlink" Target="ms-help://MS.VSCC.v90/MS.MSDNQTR.v90.en/fxref_mscorlib/html/719f1b52-1029-155e-1b5f-70335ab4f36c.htm" TargetMode="Externa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28600" y="76320"/>
            <a:ext cx="8610480" cy="6728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Write a program in C# to build a class which implements an interface which is already existing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class Point : </a:t>
            </a:r>
            <a:r>
              <a:rPr b="1" sz="1500" spc="-1" strike="noStrike">
                <a:solidFill>
                  <a:srgbClr val="000000"/>
                </a:solidFill>
                <a:latin typeface="Times New Roman"/>
              </a:rPr>
              <a:t>ICloneabl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int x, y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Point() { 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Point(int x, int y) { this.x = x; this.y = y; 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 Return a copy of the current object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object Clone(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return new Point(this.x, this.y)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return this.MemberwiseClone();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override string ToString(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return string.Format("X = {0}; Y = {1}", x, y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 Notice Clone() returns a generic object typ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 You must perform an explicit cast to obtain the derived typ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oint p3 = new Point(100, 100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oint p4 = (Point)p3.Clone(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 Change p4.x (which will not change p3.x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4.x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 Print each object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p3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p4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152280"/>
            <a:ext cx="8610480" cy="612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void updat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f (lst.Count ==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LL is empty !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"\n Enter the position of the element to update : 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i = int.Parse(Console.ReadLine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f (i &gt;= 1 &amp; i &lt;= lst.Cou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"\n Enter the data to update at the position {0} : ", i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ing str = Console.ReadL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st[i-1] = st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Data at position {0} is changed to {1}", i, st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Invalid position ! 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8686800" cy="6192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GenListDe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LinkedList LL = new LinkedList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i=1, ch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while(i==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Clear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************************************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  Welcome to LINKED LIST Operations.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************************************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1-----&gt; INSERTIO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2-----&gt; DELETIO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3-----&gt; UPDAT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4-----&gt; STATUS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5-----&gt; EXIT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************************************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"\n\n Enter your choice: 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h = int.Parse(Console.ReadLine(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228600"/>
            <a:ext cx="8686800" cy="612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witch (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se 1: LL.inser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se 2: LL.dele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se 3: LL.update(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se 4: LL.status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se 5: Environment.Exit(-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default: Console.WriteLine(" Sorry !!! Wrong  choice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"\n\n Press ENTER to Continue: 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End of LINKED LIST operations... Bye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04920" y="1873080"/>
            <a:ext cx="8839080" cy="1555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Times New Roman"/>
              </a:rPr>
              <a:t>Callback Interfaces, Delegates,</a:t>
            </a:r>
            <a:br>
              <a:rPr sz="4800"/>
            </a:br>
            <a:r>
              <a:rPr b="0" lang="en-US" sz="4800" spc="-1" strike="noStrike">
                <a:solidFill>
                  <a:srgbClr val="666699"/>
                </a:solidFill>
                <a:latin typeface="Times New Roman"/>
              </a:rPr>
              <a:t>and Ev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320" y="76320"/>
            <a:ext cx="89913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standing Callback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685800"/>
            <a:ext cx="883944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faces define a behavior that may be supported by various typ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 our syst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yond using interfaces to establish polymorphism, interfaces ma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lso be used as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llback mechanis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technique enables objects to engage in a two-way convers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sing a common set of memb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llustrate the use of callback interfaces, let’s update the familia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r type in such a way that it is able to inform the caller when it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bout to explode and has explod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ility to send and receive these events will be facilitated with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ustom interface named IEngineEv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257800"/>
            <a:ext cx="8686800" cy="1465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EngineEvents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The callback interfa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id AboutToBlow(string 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id Exploded(string 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280" y="76320"/>
            <a:ext cx="883944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nt interfaces are not implemented directly by the object which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irectly interested in receiving the events, but rather by a help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bject called a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sink obj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nder of the events (Car type in this case) will make calls o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ink under the appropriate circumsta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the sink class be CarEventSink, which simply prin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ut the incoming messages to the conso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048120"/>
            <a:ext cx="8686800" cy="375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Car event sin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CarEventSink : IEngine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ivate string 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arEventSink() {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arEventSink(string sinkNa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 name = sinkName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AboutToBlow(string ms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 Console.WriteLine("{0} reporting: {1}", name, msg)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Exploded(string ms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 Console.WriteLine("{0} reporting: {1}", name, msg)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28600" y="152280"/>
            <a:ext cx="876312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 we have a sink object that implements the event interface, ou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ext task is to pass a reference to this sink into the Car ty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ar holds onto the reference and makes calls back on the sin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rder to allow the Car to obtain a reference to the sink, we wi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eed to add a public helper member to the Car type that we will ca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dvise()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wise, if the caller wishes to detach from the event source, it ma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ll another helper method on the Car type named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Unadvise(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order to allow the caller to register multiple event sinks, the Ca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ow maintains an ArrayList to represent each outstand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ne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280" y="76320"/>
            <a:ext cx="8763120" cy="527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This Car and caller can now communic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using the IEngineEvents inte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The set of connected sink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rrayList clientSinks = new ArrayList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Attach or disconnect from the source of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Advise(IEngineEvents sin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ientSinks.Add(sink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Unadvise(IEngineEvents sin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ientSinks.Remove(sink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55180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nd the events, let’s update the Car.Accelerate() method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terate over the list of connections maintained by the ArrayList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ire the correct no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480" y="76320"/>
            <a:ext cx="8991360" cy="654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onst int maxSpeed = 10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rivate int currSpeed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rivate string petNam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rivate bool carIsDead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ar() {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ar(string name, int currS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urrSpeed = currS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etName = nam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The set of connected sink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rrayList clientSinks = new ArrayList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Attach or disconnect from the source of even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void Advise(IEngineEvents sink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lientSinks.Add(sink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void Unadvise(IEngineEvents sink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lientSinks.Remove(sink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280" y="228600"/>
            <a:ext cx="8763120" cy="56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void Accelerate(int del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If the car is 'dead', send Exploded event to each sin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f (carIsDea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each (IEngineEvents e in clientSink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.Exploded("Sorry, this car is dead...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urrSpeed += del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Send AboutToBlow ev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f (10 == maxSpeed - currSpe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each (IEngineEvents e in clientSink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.AboutToBlow("Careful buddy! Gonna blow!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f (currSpeed &gt;= maxSpe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rIsDead = tr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\tCurrSpeed = {0} ", currSpee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52280" y="152280"/>
            <a:ext cx="8763120" cy="667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Demonstrating C# proper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SimpPr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pro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impProp(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rop = 0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int MyPr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turn pr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f (value &gt;=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rop = val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U r trying to assign a -ve value...!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228600"/>
            <a:ext cx="8686800" cy="5887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Make a car and listen to the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CarA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***** Interfaces as event enablers *****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r c1 = new Car(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x4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", 1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Make sink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rEventSink sink = new CarEventSink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Pass the Car a reference to the sin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1.Advise(sin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Speed up (this will trigger the event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 (int i = 0; i &lt; 10; i+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1.Accelerate(2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Detach from event sou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1.Unadvise(sin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152280"/>
            <a:ext cx="8686800" cy="627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***** Interfaces as event enablers *****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ar c1 = new Car("SlugBug", 1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Make 2 sink objec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***** Creating sinks *****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arEventSink sink = new CarEventSink("First sink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arEventSink myOtherSink = new CarEventSink("Other sink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Hand sinks to Ca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***** Sending 2 sinks into Car *****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1.Advise(sink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1.Advise(myOtherSink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Speed up (this will generate the events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***** Speeding up *****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for (int i = 0; i &lt; 10; i+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1.Accelerate(2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Detach first sink from ev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***** Removing first sink *****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1.Unadvise(sink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Speed up again (only myOtherSink will be called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***** Speeding up again *****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for (int i = 0; i &lt; 10; i+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1.Accelerate(2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Detach other sink from ev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***** Removing second sink *****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1.Unadvise(myOtherSink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280" y="1522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the .NET Delegate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914400"/>
            <a:ext cx="868680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torically speaking, the Windows API makes frequent use of C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yle function pointers to create entities term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llback  functions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 simpl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llback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callbacks, programmers were able to configure one func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report back to (call back) another function in the appl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blem with standard C-style callback functions is that the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present little more than a raw address in mem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raditional callback functions, there can be a frequent source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ugs, hard crashes, and other runtime disas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.NET Framework, callbacks are still possible, and thei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unctionality is accomplished in a much safer and more object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riented manner us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legat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228600"/>
            <a:ext cx="8686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elegate is a type-safe object that points to another method i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pplication, which can be invoked at a later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elegate type maintains three important pieces of inform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am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method on which it makes 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gument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f any) of this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turn valu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f any) of this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a delegate has been created and provided the requir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information, it may dynamically invoke the method(s) it points to 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run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ng a Delegate in C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38080"/>
            <a:ext cx="8686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want to create a delegate in C#, we make use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legate keywor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ame of our delegate can be whatever we wish. We mu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e the delegate to match the signature of the method it wi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oint 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124080"/>
            <a:ext cx="861048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This delegate can point to any method, taking two integers and // returning an  integ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delegate int BinaryOp(int x, int y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4495680"/>
            <a:ext cx="87631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C# compiler processes delegate types, it automatical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generates a sealed class deriving from System.MulticastDeleg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class provides the necessary infrastructure for the delegate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old onto the list of methods to be invoked at a later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152280"/>
            <a:ext cx="876312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enerated BinaryOp class defines three public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oke() is the core method, as it is used to invoke each metho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intained by the delegate type in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ynchronou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ner, means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ller must wait for the call to complete before continuing on i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ynchronous Invoke() method i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ly callable from C#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ut Invoke() is called behind the sc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ginInvoke() and EndInvoke() provide the ability to call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urrent metho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ynchronousl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a second thread of exec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3040" y="4127400"/>
            <a:ext cx="883944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ealed class BinaryOp : System.MulticastDeleg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BinaryOp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object target, uint functionAddres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int x, int y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AsyncResult BeginInvok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int x, int 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yncCallback cb, object stat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EndInvok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IAsyncResult resul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228600"/>
            <a:ext cx="86868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ice that the parameters and return value defined for the Invoke(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 exactly match the definition of the BinaryOp delega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nitial parameters to BeginInvoke() members are also based 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BinaryOp delegate; BeginInvoke() will always provide two fin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arameters (of type AsyncCallback and object) that are used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acilitate asynchronous method invoc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ly, the return value of EndInvoke() is identical to the origin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legate declaration and will always take as a sole parameter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bject implementing the IAsyncResult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763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implest Possible Delegate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914400"/>
            <a:ext cx="8763120" cy="4972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 This delegate can point to any method, taking two integers and returning 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integ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public delegate int BinaryOp(int x, int y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This class contai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inaryOp will point 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SimpleM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int Add(int x, int 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turn x + y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int Subtract(int x, int 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turn x-y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228600"/>
            <a:ext cx="8686800" cy="5582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***** Simple Delegate Example *****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Create a BinaryOp object 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"points to" SimpleMath.Add(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inaryOp b = new BinaryOp(SimpleMath.Add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Invoke Add() method using deleg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10 + 10 is {0}", b(10, 10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inaryOp bb = new BinaryOp(SimpleMath.Subtrac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10 - 10 is {0}", bb(10, 10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6172200" y="228600"/>
            <a:ext cx="2666880" cy="2209680"/>
          </a:xfrm>
          <a:prstGeom prst="wedgeRectCallout">
            <a:avLst>
              <a:gd name="adj1" fmla="val 80833"/>
              <a:gd name="adj2" fmla="val -5014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you want to insert the target method to a given delegate, simply pass in the name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thod to the delegate’s construc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see another example. Assume you have defined a delega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 that can point to any method returning a string and receiv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ree System.Boolean input paramet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447920"/>
            <a:ext cx="883944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delegate string MyDelegate(bool a, bool b, bool c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2209680"/>
            <a:ext cx="883944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ealed class MyDelegate : System.MulticastDeleg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MyDelegat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object target, uint functionAddres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bool a, bool b, bool c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AsyncResult BeginInvok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bool a, bool b, bool c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yncCallback cb, object stat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EndInvok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IAsyncResult resul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49528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egates can also “point to” methods that contain any number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ut or ref parameters. For ex., assume the following delegate 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5867280"/>
            <a:ext cx="891540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delegate string MyOtherDelegate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l a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l b, int c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52280" y="228600"/>
            <a:ext cx="8839440" cy="4208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PropertyD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impProp ob = new SimpProp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Original value of ob.MyProp: " + ob.MyPro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ob.MyProp = 100; // assign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Value of ob.MyProp: " + ob.MyPro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Attempting to assign -10 to ob.MyProp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ob.MyProp = -1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Value of ob.MyProp: " + ob.MyPro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16524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ignatures of the Invoke() and BeginInvoke() methods look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you would expect; however, check out the EndInvoke() method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hich now includes the set of all out/ref arguments defined by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legate 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440" y="1905120"/>
            <a:ext cx="883944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led cla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OtherDeleg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ystem.MulticastDeleg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OtherDeleg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bject target, uint functionAddres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a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b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AsyncResult BeginInvok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re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c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yncCallback cb, object stat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Invok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re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syncResult resul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4724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ummarize, a C# delegate definition results in a sealed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ith three compiler-generated methods whose parameter and retur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s are based on the delegate’s decla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mbers of System.MulticastDeleg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685800"/>
            <a:ext cx="88394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build a type using the C# delegate keyword, you indirect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clare a class type that derives from System.MulticastDelega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class provides descendents with access to a list that contains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ddresses of the methods maintained by the delegate type, as well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everal additional methods (and a few overloaded operators)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act with the invocation li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3124080"/>
            <a:ext cx="8686800" cy="3111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abstract class MulticastDelegate : Deleg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ealed override Delegate[] GetInvocationLis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Overloaded oper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bool operator ==(MulticastDelegate d1, MulticastDeleg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bool operator !=(MulticastDelegate d1, MulticastDeleg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IntPtr _invocationCoun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object _invocationLis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2280" y="228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MulticastDelegate obtains additional functionality from i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arent class, System. Delegate. Here is a partial snapshot of the clas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i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4160" y="1523880"/>
            <a:ext cx="8762760" cy="4972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erializable, ClassInterface(ClassInterfaceType.AutoDual)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abstract class Delegate : ICloneable, ISerializ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Delegate Combine(params Delegate[] delegate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Delegate Combine(Delegate a, Delegate b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irtual Delegate[] GetInvocationList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Delegate Remove(Delegate source, Delegate valu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Delegate RemoveAll(Delegate source, Delegate valu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Overloaded op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bool operator ==(Delegate d1, Delegate d2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bool operator !=( Delegate d1, Delegate d2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Prope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MethodInfo Method { g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bject Target { g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83944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(and Using)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685800"/>
            <a:ext cx="868680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egates are fairly interesting constructs because you can resolv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name of a function to call at runtime, rather than at compile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use the ability for one object to call back to another object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uch a helpful construct, C# provides the event keyword to less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burden of using delegates in the ra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st prevalent use of the "event" keyword would be found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GUI-based applications, in which Button, TextBox, and Calenda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idgets all report back to the containing Form when a given ac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(such as clicking a Button) has occur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all that the current implementation of Car.SpeedUp() throws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ception if the user attempts to increase the speed of an automobi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at has already been destroy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not a good way because, the exception has the potential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alt the program's execution if the error is not handled in an elega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nn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76320"/>
            <a:ext cx="87631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better design would be to simply inform the object user whe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r has died using a custom event, and allow the caller to ac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ccording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ng an event is a two-step process. First, you need to define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legate that contains the methods to be called when the event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ir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xt, you declare the events (using the C# event keyword) in term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the related deleg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152280"/>
            <a:ext cx="868680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is car can 'talk back' to the us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Is the car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bool carIsDea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Holds the function(s) to call when the event occu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delegate void EngineHandler(string msg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car can send these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Handler Explod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Handler AboutToBlow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220680"/>
            <a:ext cx="8839440" cy="640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Fire the correct event based on our current state of affai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void SpeedUp(int del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f the car is dead, send exploded ev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carIsD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Exploded != nul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ded("Sorry, this car is dead..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Speed += delt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Almost dead? Send about to blow ev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10 == maxSpeed - currSpe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AboutToBlow != nul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outToBlow("Careful, approaching terminal speed!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Still OK! Proceed as usu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currSpeed &gt;= maxSpe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IsDead 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\tCurrSpeed = {0} ", currSpee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2280" y="76320"/>
            <a:ext cx="883944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nts Under the 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762120"/>
            <a:ext cx="883944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# event actually expands into two hidden public methods, o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aving an add_ prefix; the other having a remove_ prefix. This prefix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s followed by the name of the C# ev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the Exploded event expands to the following metho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590920"/>
            <a:ext cx="8763120" cy="1557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The following event expands in CIL cod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add_Explod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remove_Explod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event EngineHandler Explod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4267080"/>
            <a:ext cx="883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ddition to defining hidden add_XXX() and remove_XXX(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s, each event also actually maps to a private class, whi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sociates the corresponding delegate to a given ev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is way, when an event is raised, each method maintained by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legate will be called. This is a convenient way to allow an object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roadcast the event to multipl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vent sink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7632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(T) Generic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09480"/>
            <a:ext cx="868680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st(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lass is the generic equivalent of the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ArrayLi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lass. I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mplements the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IList(T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eneric interface using an array whose siz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s dynamically increased as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st(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lass uses both an equality comparer and an order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ar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s such as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Contai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IndexOf, LastIndexOf, and Remove u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 equality comparer for the list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s such as BinarySearch and Sort use an ordering compar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r the list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st(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not guaranteed to be sorted. You must sort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st(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efore performing operations (such as BinarySearch)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quire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st(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be sor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ments in this collection can be accessed using an integer index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dexes in this collection are zero-ba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22860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event (Exploded and AboutToBlow) is internally represent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 the following memb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rivate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add_XXX() metho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move_XXX() metho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280" y="76320"/>
            <a:ext cx="86108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ening to Incoming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609480"/>
            <a:ext cx="868680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you have now created an instance of the Car class and wis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isten to the events it is capable of se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oal is to create a method that represents the event sink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ill be called by the related delega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bind this method to the event, you need to call the corr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dd_XXX() method to ensure that your method is added to the li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function pointers maintained by the EngineHandler deleg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, you cannot call the CIL add_XXX() and remove_XXX(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irectly, but rather use the overloaded += and -= opera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wish to listen to an event, follow the pattern shown he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5092560"/>
            <a:ext cx="8915400" cy="1557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I'm listenin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ObjectVariable.EventName += new ObjectVariable.DelegateName(functionToCa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.Exploded += new Car.EngineHandler(OnBlowUp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8600" y="76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wish to detach from a source of events, use the -=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pera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066680"/>
            <a:ext cx="8686800" cy="1557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Shut up alread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ObjectVariable.EventName -= new ObjectVariable.DelegateName(functionToCa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.Exploded -= new Car.EngineHandler(OnBlowUp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6000" y="127080"/>
            <a:ext cx="8686800" cy="6700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Make a car and listen to the ev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public class CarAp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ar c1 = new Car("SlugBug", 100, 1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Hook into ev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ar.Exploded += new Car.EngineHandler(OnBlowUp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ar.AboutToBlow += new Car.EngineHandler(OnAboutToBlow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Speed up (this will generate the events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for(int i = 0; i &lt; 10; i+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1.SpeedUp(2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Detach from ev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ar.Exploded -= new Car.EngineHandler(OnBlowUp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ar.Exploded -= new Car.EngineHandler(OnAboutToBlow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No response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for(int i = 0; i &lt; 10; i+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1.SpeedUp(2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OnBlowUp event sin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public static void OnBlowUp(string 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Message from car: {0} ", 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OnAboutToBlow event sin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public static void OnAboutToBlow(string 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Message from car: {0} ", 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7632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s As Event S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85800"/>
            <a:ext cx="8686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are free to build a helper object to respond to an object's ev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et, much in the same way that you created a helper class to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lled by all deleg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let's move your event sink methods out of the CarAp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ss and into a new class named CarEventSin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2819520"/>
            <a:ext cx="876312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Car event s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EventS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OnBlowUp event handl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OnBlowUp(string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Console.WriteLine("Message from car: {0} ", s)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OnBlowUp event handler version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OnBlowUp2(string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Console.WriteLine("AGAIN I say: {0} ", s)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OnAboutToBlow handl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OnAboutToBlow(string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Console.WriteLine("Message from car: {0} ", s)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228600"/>
            <a:ext cx="8610480" cy="5854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Note the creation and use of the CarEventSin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Car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 c1 = new Car("SlugBug", 100, 1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Make the sink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EventSink sink = new CarEventSink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Hook into events using sink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.Exploded += new Car.EngineHandler(sink.OnBlowU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.Exploded += new Car.EngineHandler(sink.OnBlowUp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.AboutToBlow += new Car.EngineHandler(sink.OnAboutToBlow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(int i = 0; i &lt; 10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1.SpeedUp(2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Detach from events using sink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.Exploded -= new Car.EngineHandler(sink.OnBlowU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.Exploded -= new Car.EngineHandler(sink.OnBlowUp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.Exploded -= new Car.EngineHandler(sink.OnAboutToBlow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8080" y="1981080"/>
            <a:ext cx="7467840" cy="1556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dvanced C# Type Construction Techniq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152280"/>
            <a:ext cx="86104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dvanced Keywords of C#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17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 you’ll examine some of the more esoteric C# keywor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ed/unchec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safe/stackalloc/fixed/size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866960"/>
            <a:ext cx="86868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he checked Key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numerical data type has a fixed upper and lower limit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are performing arithmetic operations on a specific type, it is very possible that you may accidentall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verflow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ximum storage of the type 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derflow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inimum storag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ty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you have created two System.Byte types (a C# byte), ea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which has been assigned a value that is safely below the maximum (25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were to add the values of these types, you would assu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the result would be the exact sum of each memb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" y="228600"/>
            <a:ext cx="8763120" cy="527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Overflow the max value of a System.By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Max value of byte is {0}.", byte.MaxValu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Min value of byte is {0}.", byte.MinValu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b1 = 1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b2 = 25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sum = (byte)(b1 + b2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sum should hold the value 350, however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sum = {0}", sum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5486400"/>
            <a:ext cx="876312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value of byte is 2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 value of byte is 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= 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228600"/>
            <a:ext cx="8686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ill be surprised to find that sum contains the value 94 (rath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an the expected 350). The reason is simple. Given that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Byte can hold a value only between 0 and 255 (inclusiv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r a grand total of 256 slots), sum now contains the overflow valu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(350 – 256 = 94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handle overflow or underflow conditions in your applicatio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you have two options. Your first choice is to leverage your wits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rogramming skills to handle all overflow conditions manu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ing you were indeed able to find each overflow condition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your program, you could resolve the previous overflow error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800600"/>
            <a:ext cx="8839080" cy="1557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Store sum in an integer to prevent overf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b1 = 10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b2 = 25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= b1 + b2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76320"/>
            <a:ext cx="86104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Linked Li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33520"/>
            <a:ext cx="8534520" cy="612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.Collections.Generi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.Tex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namespace Linked_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Linked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ff0000"/>
                </a:solidFill>
                <a:latin typeface="Times New Roman"/>
              </a:rPr>
              <a:t>List</a:t>
            </a:r>
            <a:r>
              <a:rPr b="1" sz="1800" spc="-1" strike="noStrike">
                <a:solidFill>
                  <a:srgbClr val="ff0000"/>
                </a:solidFill>
                <a:latin typeface="Times New Roman"/>
              </a:rPr>
              <a:t>&lt;object&gt;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ls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LinkedList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st = new List&lt;object&gt;();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Create a li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Initial number of elements in the LL : " + lst.Coun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void insert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Clear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*********************************************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  1-----&gt; INSERTION AT THE BEGINNING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  2-----&gt; INSERTION AT THE ENDING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  3-----&gt; INSERTION AFTER CERTAIN NODES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*********************************************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76320"/>
            <a:ext cx="87631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provides the checked keywor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n overflow has occurred, the runtime will throw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OverflowException type. Observe the following upd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1447920"/>
            <a:ext cx="8686800" cy="5303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// Overflow the max value of a System.By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onsole.WriteLine("Max value of byte is {0}.", byte.MaxValue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yte b1 = 100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yte b2 = 250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yte sum =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hecke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(byte)(b1 + b2)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onsole.WriteLine("sum = {0}", sum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atch(OverflowException e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{ Console.WriteLine(e.Message); }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280" y="152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wish to force overflow checking to occur over a block of cod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you can interact with the checked keyword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990720"/>
            <a:ext cx="8839440" cy="56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Overflow the max value of a System.By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ax value of byte is {0}.", byte.MaxValu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te b1 = 10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te b2 = 25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eck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te sum = (byte)(b1 + b2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sum = {0}", sum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tch(OverflowException 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e.Messag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76320"/>
            <a:ext cx="88394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nchecked Key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6858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language provides the unchecked keyword to disable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rowing of System.OverflowException on a case-by-case ba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1523880"/>
            <a:ext cx="8839440" cy="520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Overflow the max value of a System.By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ax value of byte is {0}.", byte.MaxValu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te b1 = 10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te b2 = 25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check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te sum = (byte)(b1 + b2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sum = {0}", sum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tch(OverflowException 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Console.WriteLine(e.Message);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228600"/>
            <a:ext cx="8686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want to selectively handle discrete statements, make u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the checked keywor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wish to trap overflow errors throughout your applicatio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nable the /checked flag. Finally, the unchecked keyword may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sed if you have a block of code where overflow is acceptable (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us should not trigger a runtime excep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600" y="15228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ing with Pointer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762120"/>
            <a:ext cx="8763120" cy="27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.NET platform defines two major categories of data: value typ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reference typ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ever, there is a third category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ointer typ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o work wit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ointer types, we are provided with specific operators and keyword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at allow us to bypass the CLR’s memory management scheme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ake matters into our own h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7631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28600"/>
            <a:ext cx="876312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exactly would you need to work with pointer types? There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wo common situ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are looking to optimize select parts of your applic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by directly manipulating memory outside the manag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of the CL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are calling methods of a C-based *.dll or COM serv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that demand pointer types as para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decide to make use of this c# feature, you will be required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formcsc.exe of your intentions by enabling your project to suppor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“unsafe code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o so using the C# command-line compiler (csc.exe), simp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upply th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unsaf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lag as an argu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7080" y="114480"/>
            <a:ext cx="899136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safe Key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65736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wish to work with pointers in C#, you must specifical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clare a block of “unsafe” code using th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unsaf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eyword (any cod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at is not marked with the unsafe keyword is considered “safe”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utomatically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209680"/>
            <a:ext cx="8686800" cy="1313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Work with pointer types her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36576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ddition to declaring a scope of unsafe code, you are able to buil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ructures, classes, type members, and parameters that are “unsaf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495680"/>
            <a:ext cx="853416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entire structure is 'unsafe' and can be used only in an unsafe 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saf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 N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 Val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Node* Lef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Node* Righ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136440"/>
            <a:ext cx="8610480" cy="2838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struct is safe, but the Node* members are not. Technically, you m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ccess 'Value' from outside an unsafe context, but not 'Left' and 'Right'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ruct N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 Val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ese can be accessed only in an unsafe contex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saf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* Lef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saf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* Righ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29718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s may be marked as unsafe as well. Ensure that th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 can be called only from an unsafe con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3809880"/>
            <a:ext cx="89154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saf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void SomeUnsafeCod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Work with pointer types her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5029200"/>
            <a:ext cx="8991720" cy="1739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configuration demands that the caller invoke SomeUnsafeCode() as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UnsafeCode();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52280" y="1522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other usage of unsafe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685800"/>
            <a:ext cx="8610480" cy="4848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void SomeUnsafeCod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Work with pointers her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would simplify the call to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UnsafeCod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152280"/>
            <a:ext cx="8763120" cy="640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"\n\n Enter your choice: 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ch = int.Parse(Console.ReadLine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ing st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witch (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se 1: Console.Write("\n Enter the data: 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=Console.ReadL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st.Insert(0,st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{0} is inserted at the beginning.",st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se 2: Console.Write("\n Enter the data: 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 = Console.ReadL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st.Add(st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{0} is inserted at the ending.",st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se 3: if (lst.Count ==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List is not built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"\n After how many nodes? : 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n = int.Parse(Console.ReadLine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52280" y="76320"/>
            <a:ext cx="88394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ing with the * and &amp; Ope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733320"/>
            <a:ext cx="86868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you have established an unsafe context, you are free to buil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ointers to data types using the * operator and obtain the address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aid pointer using the &amp; operat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C#, the * operator is applied to the underlying type only, no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 a prefix to each pointer variable n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955960"/>
            <a:ext cx="8763120" cy="1557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No! This is incorrect under C#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*pi, *pj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Yes! This is the way of C#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* pi, pj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52280" y="152280"/>
            <a:ext cx="876312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myI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Define an int pointer, 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sign it the address of myI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* ptrToMyInt = &amp;myI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Assign value of myInt using pointer indire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*ptrToMyInt = 12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Print some sta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Value of myInt {0}", myIn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Address of myInt {0:X}", (int)&amp;ptrToMyIn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52280" y="76320"/>
            <a:ext cx="88394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safe (and Safe) Swap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685800"/>
            <a:ext cx="8839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aring pointers to local variables simply to assign their value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ever required and not altogether usefu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llustrate a more practical example of unsafe code, assume yo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ish to build a swap function using pointer arithmet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2438280"/>
            <a:ext cx="8763120" cy="4208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class usa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unsafe public static void UnsafeSwap(int* i, int* j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nt temp = *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*i = *j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*j = te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ublic static void SafeSwap(ref int i, ref int j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nt temp = 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 = j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j = te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2280" y="228600"/>
            <a:ext cx="8839440" cy="6285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***** Calling method with unsafe code *****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// Values for sw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int i = 10, j = 2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// Swap values 'safely'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\n***** Safe swap *****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Values before safe swap: i = {0}, j = {1}", i, 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SafeSwap(ref i, ref 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Values after safe swap: i = {0}, j = {1}", i, 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// Swap values 'unsafely'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\n***** Unsafe swap *****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Values before unsafe swap: i = {0}, j = {1}", i, 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UnsafeSwap(&amp;i, &amp;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Values after unsafe swap: i = {0}, j = {1}", i, 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2280" y="15228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 Access via Pointers (the -&gt; Oper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838080"/>
            <a:ext cx="891540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 x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 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verride string ToString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tring.Format("({0}, {1})", x, y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280" y="76320"/>
            <a:ext cx="8686800" cy="667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o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Access members via poin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 poin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* p = &amp;poin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-&gt;x = 10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-&gt;y = 20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p-&gt;ToString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Access members via pointer in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 poin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* p = &amp;poin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p).x = 10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p).y = 20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(*p).ToString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15228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ckalloc Key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838080"/>
            <a:ext cx="87631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n unsafe context, you may need to declare a local variable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llocates memory directly from the call stac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o so, C# provides the stackalloc keyword, which is the C#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quivalent to the _alloca function of the C runtime libr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868680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* p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ckallo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[256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k = 0; k &lt; 256; k+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[k] = (char)k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320" y="76320"/>
            <a:ext cx="90676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ning a Type via the fixed Key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609480"/>
            <a:ext cx="88394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ocating a chunk of memory within an unsafe context may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acilitated via the stackalloc keywor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the nature of this operation, the allocated memory is cleaned u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 soon as the allocating method has re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ing our examination of the -&gt; operator, you created a value typ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amed Point. Like all value types, the allocated memory is popp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f the stack once the executing scope has termin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81280"/>
            <a:ext cx="8686800" cy="3204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assume Point is defined a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&lt;= Now a clas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 x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 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verride string ToString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tring.Format("({0}, {1})", x, y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280" y="152280"/>
            <a:ext cx="8839440" cy="68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caller declares a variable of type Point, the memory is allocat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n the garbage collected hea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n question is, what if an unsafe context wishes to interact wit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is object (or any object on the heap)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n that garbage collection can occur at any moment, where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weep of the heap is under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possible that the unsafe context is attempting to interact with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mber that is no longer accessible or has been repositioned o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eap after surviving a generational swee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lock a reference type variable in memory from an unsafe contex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# provides th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fix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eywor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xed statement sets a pointer to a managed type and “pins”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ariable during the execution of stat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out fixed, pointers to managed variables would be of little us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ince garbage collection could relocate the variables unpredictab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2280" y="76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, if you create a Point type and want to interact with i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mbers, you must write the following co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990720"/>
            <a:ext cx="868680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blic static void 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pt = new Point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t.x = 5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t.y = 6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pin pt in place so it will not  be moved or GC-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 (int* p = &amp;pt.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Use int* variable her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pt is now unpinned, and ready to be GC-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 ("Point is: {0}", p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51814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152280"/>
            <a:ext cx="8686800" cy="667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f(n&gt;=1&amp;n&lt;lst.Cou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"\n Enter the data: 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 = Console.ReadL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st.Insert(n,st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{0} is inserted after {1} nodes.", str, 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After {0} nodes, insertion is not possible !",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default: Console.WriteLine("\n Sorry !!! Wrong  choice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void delet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f (lst.Count ==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LL is empty !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304920"/>
            <a:ext cx="8686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xed keyword allows you to build a statement that locks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e variable in memory, such that its address remains consta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r the duration of the stat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time you interact with a reference type from within the contex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unsafe code, pinning the reference is a m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52280"/>
            <a:ext cx="89917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izeof Key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in C(++), the C# sizeof keyword is used to obtain the size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ytes for a value type (never a reference type), and it may only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sed within an unsafe con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280" y="2057400"/>
            <a:ext cx="8915400" cy="1923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he size of short is {0}."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hort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he size of int is {0}."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t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he size of long is {0}."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ong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0440" y="4114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sizeof will evaluate the number of bytes for an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ValueType-derived entity, you are able to obtain the size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ustom structures as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1676520"/>
            <a:ext cx="8610480" cy="43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 MyValue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hort 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 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long 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he size of short is {0}."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hort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he size of int is {0}."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t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he size of long is {0}."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ong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he size of MyValueType is {0}."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yValueType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52280" y="76320"/>
            <a:ext cx="883944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ing a Custom Index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7621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programmers, we are very familiar with the process of access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iscrete items held within a standard array using the index opera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1676520"/>
            <a:ext cx="891540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Declare an array of integ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[] myInts = { 10, 9, 100, 432, 9874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Use the [] operator to access each ele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(int j = 0; j &lt; myInts.Length; j+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Index {0} = {1} ", j, myInts[j]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3429000"/>
            <a:ext cx="883944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# language provides the capability to build custom classes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y be indexed just like an array of intrinsic typ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ethod that provides the capability to access items in th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nner is termed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x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152280"/>
            <a:ext cx="8686800" cy="6497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Indexers allow you to access items in an array-like fash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CarA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Assume the Cars type has an indexer meth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s carLot = new Cars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Make some cars and add them to the car l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Lot[0] = new Car("FeeFee", 200, 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Lot[1] = new Car("Clunker", 90, 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Lot[2] = new Car("Zippy", 30, 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Now obtain and display each i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(int i = 0; i &lt; 3; i+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Car number {0} :"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Name: {0} ", carLot[i].PetNam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Max speed: {0} "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Lot[i].MaxSpeed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52280" y="228600"/>
            <a:ext cx="883944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exers behave much like a custom collection supporting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Enumerator and IEnumerable interfa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nly major difference is that rather than accessing the conten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sing interface references, you are able to manipulate the intern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llection of automobiles just like a standard arr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you configure the Cars class (or any class) to do so?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dexer itself is represented as a slightly mangled C# proper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its simplest form, an indexer is created using the this[] syntax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52280" y="76320"/>
            <a:ext cx="8839440" cy="5934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Add the indexer to the existing class defini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class Cars : IEnumer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To contain the car typ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vate ArrayList carArray = new ArrayList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The indexer returns a Car based on a numerical inde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Car this[int pos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Accessor returns an item in the arra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(pos &lt; 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row new IndexOutOfRangeException("Out of range!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 (Car)carArray[pos]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Or simply call carArray.Add(valu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Array.Insert(pos, valu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6019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yond the use of the "this" keyword, the indexer looks just like an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ther C# property decla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76320" y="136440"/>
            <a:ext cx="899136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Use System.Array.Length? Nop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Cars in stock: {0} ", carLot.Length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280" y="9907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upport this functionality, you would need to add your ow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Length property to the Cars type, and delegate according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1828800"/>
            <a:ext cx="8839440" cy="1923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C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Containment/delegation in action once ag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 Length() { carArray.Coun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957D-C7DF-442D-8931-2C1498A93E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228600" y="152280"/>
            <a:ext cx="8610480" cy="52056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Operator Overlo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228600" y="914400"/>
            <a:ext cx="86104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has a canned set of tokens that are used to perform basic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perations on intrinsic typ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we know that the + operator can be applied to tw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gers in order to yield a larger integ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304920" y="2666880"/>
            <a:ext cx="8458200" cy="13136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e + operator with i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a = 1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b = 24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c = a + b; // c is now 3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304920" y="4191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+ operator can be applied to most intrinsic C# dat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s. For example, consider this co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380880" y="5153040"/>
            <a:ext cx="8458200" cy="13136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+ operator with strin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s1 = "Hello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s2 = " world!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s3 = s1 + s2; // s3 is now "Hello world!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5A55-C1A6-4AA4-8EDD-A901129424D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228600" y="152280"/>
            <a:ext cx="86868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essence, the + operator functions in unique ways based on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upplied data types (strings or integers in this cas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+ operator is applied to numerical types, the result is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ummation of the operands. When the + operator is  applied t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ring types, the result is string concate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8872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228600"/>
            <a:ext cx="8686800" cy="627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Clea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 *********************************************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   1-----&gt; DELETION (FIRST OCCURENCE)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   2-----&gt; DELETION  AT A SPECIFIED POSITION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   3-----&gt; DELETION OF ALL THE ELEMENTS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 *********************************************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("\n\n Enter your choice: 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int ch = int.Parse(Console.ReadLine(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switch (ch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ase 1: Console.Write("\n Enter the data: 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string str = Console.ReadLin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if (lst.Contains(str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lst.Remove(st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 First occurence of {0} is deleted.", st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 The data '{0}' doesn't exist.", st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ase 2: Console.Write("\n Enter the position : 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int n = int.Parse(Console.ReadLine(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if (n &gt;= 1 &amp; n &lt;= lst.Coun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lst.RemoveAt(n - 1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 Element at the position {0} is deleted.", n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F7AB-17AF-47F4-9C3D-D658AD011C1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228600" y="228600"/>
            <a:ext cx="8686800" cy="59346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class Poi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vate int x, y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ublic Point(int xPos, int yP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xPo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yPo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atic Point operator +(Point p1, Point p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new Point (p1.x + p2.x, p1.y + p2.y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atic Point operator -(Point p1, Point p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new Point(p1.x - p2.x, p1.y - p2.y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override string ToString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string.Format("[{0}, {1}]", this.x, this.y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1363-F96E-4FF4-B584-0332105A6F8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228600" y="228600"/>
            <a:ext cx="8686800" cy="55825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***** Fun with Overloaded Operators *****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Make two poi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ptOne = new Point(100, 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ptTwo = new Point(40, 4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ptOne = {0}", ptOn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ptTwo = {0}", ptTwo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Add the points to make a bigger poi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ptOne + ptTwo: {0} ", ptOne + ptTwo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Subtract the points to make a smaller poi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ptOne - ptTwo: {0} ", ptOne - ptTwo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7576-BCA2-47C0-A92A-FA340567CDB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4920" y="152280"/>
            <a:ext cx="8686800" cy="6421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overloading + ope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lass Comp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double x, y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omplex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omplex(double real, double ima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x = rea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y = imag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static Complex operator +(Complex c1, Complex c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mplex c3 = new Complex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3.x = c1.x + c2.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3.y = c1.y + c2.y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(c3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void display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(x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+j" + y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DEFA-8C09-4708-8D87-E018D061541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228600" y="152280"/>
            <a:ext cx="876312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Complex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plex a= new Complex(2.5,3.5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plex b= new Complex(1.6,2.7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plex c = a + b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" a = 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.display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" b = 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.display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" c = 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.display();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228600"/>
            <a:ext cx="8686800" cy="6177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\n Not a valid position to delete !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se 3: lst.Clear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\n All the elements are deleted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default: Console.WriteLine("\n Sorry !!! Wrong  choice.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void status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f (lst.Count == 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\n LL is empty !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\n LL contains {0} elements.", lst.Coun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("\n The elements are : 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 (int i = 0; i &lt; lst.Count; i++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(lst[i] + "\t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3:24:27Z</dcterms:created>
  <dc:creator>Hemanth</dc:creator>
  <dc:description/>
  <dc:language>en-US</dc:language>
  <cp:lastModifiedBy>Hemanth</cp:lastModifiedBy>
  <dcterms:modified xsi:type="dcterms:W3CDTF">2011-11-07T13:38:54Z</dcterms:modified>
  <cp:revision>236</cp:revision>
  <dc:subject/>
  <dc:title>Slide 1</dc:title>
</cp:coreProperties>
</file>